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FD0-5E24-4895-AC42-87CFF095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F4D-A51C-4704-B208-26223A46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0EE-DF32-49C9-B675-D36F31F8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62F-B714-49D8-AB7E-921EF256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018-AF55-4F0F-A5FB-83D803D8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BFC-D024-4653-8A93-D23F7695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444-9436-4572-B886-A5CC8DF4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510-2921-43A3-BDB4-29073C67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DFF-A8DC-4BB1-8B9D-D0795B31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294-FA5B-465C-B560-EDBB72E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9A3-7EBF-4D42-80AC-B06EBF5C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046-1266-4A0C-8F88-BEA86850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7D77-9148-4DC3-890D-EC1788A8B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38200" y="549360"/>
            <a:ext cx="626760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*^^ORLANDO BLOOM</a:t>
            </a:r>
            <a:endParaRPr b="1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BIOGRAPHY^^*</a:t>
            </a:r>
            <a:endParaRPr b="1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FIL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557360"/>
          <a:ext cx="8229600" cy="5102280"/>
        </p:xfrm>
        <a:graphic>
          <a:graphicData uri="http://schemas.openxmlformats.org/drawingml/2006/table">
            <a:tbl>
              <a:tblPr/>
              <a:tblGrid>
                <a:gridCol w="2057400"/>
                <a:gridCol w="2273400"/>
                <a:gridCol w="1841400"/>
                <a:gridCol w="205740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Catego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Fil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resul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Screen Actors Guild to the best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The Lord of the Rings: the return of the 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Screen Actors Guild to the best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The Lord of the Rings: the two to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candi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Screen Actors Guild to the best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The Lord of the Rings: the community of the ring</a:t>
                      </a:r>
                      <a:r>
                        <a:rPr b="0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candi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333360"/>
            <a:ext cx="799308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50000">
                      <a:srgbClr val="ffffff"/>
                    </a:gs>
                    <a:gs pos="100000">
                      <a:srgbClr val="7f7f7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BY: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7f7f7f"/>
                  </a:gs>
                  <a:gs pos="50000">
                    <a:srgbClr val="ffffff"/>
                  </a:gs>
                  <a:gs pos="100000">
                    <a:srgbClr val="7f7f7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50000">
                      <a:srgbClr val="ffffff"/>
                    </a:gs>
                    <a:gs pos="100000">
                      <a:srgbClr val="7f7f7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ANIA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7f7f7f"/>
                  </a:gs>
                  <a:gs pos="50000">
                    <a:srgbClr val="ffffff"/>
                  </a:gs>
                  <a:gs pos="100000">
                    <a:srgbClr val="7f7f7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His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Real name-&gt;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rlando Jonathan Blanchard Bl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irth-&gt;13 January,1977 (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From Canterbury, Kent,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^^Small Biography^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When he was 16 years old, Orlando moved to Lond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Orlando secured a scholarship to study in the British American Drama Acad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Orlando made his debut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Orlando  the Guildhall School of Music and Drama, in Lond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7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7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8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8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The Lord of the 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He went to the casting of the Lord of the R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He was accepted for the role of Leg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Orlando appeared in the three parts of the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It was thanks to this movie that he became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6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7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8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9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Pirates of the Caribb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He</a:t>
            </a: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played the role of William Turner in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He appeared next to famous actors Johnny Depp and Keira Knigh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35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35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Comic Sans MS"/>
              </a:rPr>
              <a:t>Tr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Brad Pitt was also in this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The movie is an adaptation of Homer’s great e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It tells us the assault on Troy by the Greek for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2.5E-006 4.07407E-006 L -2.5E-006 -0.07338 E">
                                      <p:cBhvr>
                                        <p:cTn id="3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4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42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4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The kingdom of he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other of his famous films, with Liam Neeson, Jeremy Irons, and  Edward Nor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9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Filmography 2008-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197000"/>
          <a:ext cx="8218440" cy="5491080"/>
        </p:xfrm>
        <a:graphic>
          <a:graphicData uri="http://schemas.openxmlformats.org/drawingml/2006/table">
            <a:tbl>
              <a:tblPr/>
              <a:tblGrid>
                <a:gridCol w="1647720"/>
                <a:gridCol w="657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New York, I Love You (rolling the film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Everest . A climb for pe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Pirates of the Caribbean: in the end of the wor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In Celebration (play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Pirates of the Caribbean: the coffer of the dead m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Love and other disas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Kingdom of Heav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Elizabetht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Filmography 2004-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11280" y="981000"/>
          <a:ext cx="7556400" cy="5570640"/>
        </p:xfrm>
        <a:graphic>
          <a:graphicData uri="http://schemas.openxmlformats.org/drawingml/2006/table">
            <a:tbl>
              <a:tblPr/>
              <a:tblGrid>
                <a:gridCol w="1593720"/>
                <a:gridCol w="5962680"/>
              </a:tblGrid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Troy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Hav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The calcium k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Pirates of the Caribbean: the curse of the black Rep 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Ned Kelly, the legend begi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The Lord of the Rings :the return of the k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The Lord of the Rings :the two towers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The Lord of the Rings: the community of the ring</a:t>
                      </a:r>
                      <a:r>
                        <a:rPr b="0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Black Hawk demolish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19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Wil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07:37Z</dcterms:created>
  <dc:creator>Alumno53</dc:creator>
  <dc:description/>
  <dc:language>en-US</dc:language>
  <cp:lastModifiedBy>Alumno53</cp:lastModifiedBy>
  <dcterms:modified xsi:type="dcterms:W3CDTF">2008-06-09T09:00:05Z</dcterms:modified>
  <cp:revision>7</cp:revision>
  <dc:subject/>
  <dc:title>*Orlando Bloom*</dc:title>
</cp:coreProperties>
</file>